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9552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94020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50560" y="698040"/>
            <a:ext cx="465300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7B18-A52E-4DEA-989B-4B75759E5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C5A0-FF1C-4865-853F-A63479B7D6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B83E-154D-4D21-AEFC-E7A966A2E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104C-2BA6-4120-A8EC-F031D511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5A0A-4583-4C6F-A530-A6AE49659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AED4-59D6-465E-86BD-883408A58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5227-F6A6-43EC-9EA8-B7E61FD8B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40F5-25AC-409D-AABF-46E73DA8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9C71-9FF9-41E7-9FAF-C389152B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3F67-0DA8-49D7-8C83-78C9CEC7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1AE8-D697-4336-BCFC-A0F4FEA4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57CF-9FEB-4FA3-9013-4C6EC570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31FA-5B6C-48F7-9347-8DEB2686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8591-1BE6-4B6F-800E-1646621B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88D0-61AF-4061-8861-C7BA5666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6068-2BD8-46CD-820B-7B271B87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CC6F-1915-4F5F-8869-DDCFC05C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7069-BF4E-45DA-AA37-EB8F3225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0BAB-247E-4641-B436-3B5028CBE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95300-F4B4-4669-9B4D-06D26842D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37F88-A335-4AA9-8B7E-965CAF3C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28A38-1EF2-4792-BCBA-F5F06F1F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11CBA-7194-42CC-8144-E4B885A1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201BA-3533-473E-B739-6BD34A54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8EE2-E517-4B71-A92D-2324F987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F25C7-E80F-41B1-A8CB-DE79E4B7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D5054-3FBE-4C78-BF74-2E0C6DB7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FC9F1-5085-4E6D-9C2F-40C049ED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5446C-69D6-4F42-A8A3-19210BAF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3149A-0D90-4006-8B91-F3F62C3D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67E94-A2D3-4029-9FD7-BA52FAED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F1689-8CBA-4592-8AB8-B3EB58C0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82648-18D2-4412-BAF2-0CBF812E8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E4B84-A9A4-429C-ADF1-00233F36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EB49A-E37C-4E8E-BBDA-FBCE067B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66A4-9464-43E0-A036-7642171C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6541A-83DD-4984-BD4F-A06B9090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5221D-EEAA-4C1F-AF74-8BF4D395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6DE92-6448-4BA2-9AAF-1CB99A67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42828-A70F-4897-B776-3F0C9366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3D2F1-93DC-4359-8750-7DFBD7B7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AD48B-606D-4C8A-BEC0-8E5B1211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97F15-4669-458E-A155-17AC4884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524E5-D26F-4FF5-9E8F-58190254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C1143-5F0C-4CB3-B751-927AFD996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67DE-7D39-4D1A-B329-BFEB2AB2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E207-73C8-44D6-AD28-A9143CBB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DA3C-62B9-4747-9782-6E2C11AE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8B9C-DD0E-4B7E-AE0F-48A9D542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4DE7-4749-4809-A8EE-7DF42AD3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2E86-9FB4-4EE0-A0A6-361F5EAB433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960F-0103-4531-9D8A-36E3C8AAD6A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C58C-DE99-4975-B485-62B4245CA02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4265-BB75-47D0-82BF-1BAC3154C18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ahunt@fcps.edu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YP Language acquisition:</a:t>
            </a:r>
            <a:br>
              <a:rPr sz="5000"/>
            </a:b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YP unit planner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ureen Hu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4617b"/>
                </a:solidFill>
                <a:uFillTx/>
                <a:latin typeface="Constantia"/>
                <a:hlinkClick r:id="rId1"/>
              </a:rPr>
              <a:t>mahunt@fcps.ed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nandale High Schoo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BMYP Language acquisition Senior Moderat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YP unit plann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76320" y="1934640"/>
            <a:ext cx="90676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ey concepts – communication, connections, creativity, culture (page 37 of the guid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lated concept(s) for phases 1-2 / phases 3-4 (page 38 of the guide) (Choose 2-4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lobal context (page 38 of the guide / From principles into practice – page 19 for further clarification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dentities and relationships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cientific and technical innov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rientation in space and time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Globalization and sustainabilit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ersonal and cultural expression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airness and developme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YP unit plann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tement of inquiry (see page 39 of the guid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tatements of inquiry set conceptual understanding in     a global context in order to frame classroom inquiry and direct purposeful learn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Inquiry questions (see page 40 of the guid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Factual – Remembering facts and concep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onceptual – Analysing “big ideas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ebatable – Evaluating perspectives an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                                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eveloping theor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YP unit plann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0109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om principles into practi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e pages 50 – 73 for full detai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ffers clarifications / more specific explan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an the Language acquisition gui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Language acquisition Teacher support material (OCC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880" y="1904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nguage acquisition Teacher support material (For use from September 2014 or January 2015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YP unit planning proc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 of MYP Language acquisition unit pla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 of language acquisition subject group overview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 task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ent assessed wor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re unit planners and tasks for criteria A and B will be available next ye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8T11:30:41Z</dcterms:created>
  <dc:creator>Administrator</dc:creator>
  <dc:description/>
  <dc:language>en-US</dc:language>
  <cp:lastModifiedBy>APPV</cp:lastModifiedBy>
  <cp:lastPrinted>2014-08-26T16:30:32Z</cp:lastPrinted>
  <dcterms:modified xsi:type="dcterms:W3CDTF">2014-11-18T17:55:26Z</dcterms:modified>
  <cp:revision>47</cp:revision>
  <dc:subject/>
  <dc:title>MYP Language B Updates</dc:title>
</cp:coreProperties>
</file>