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1c4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672E-96E7-4D55-84D9-C17ABD8FF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685A-E07D-45A8-9765-BC1369A8EF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320C-F3E2-44A4-8527-38EFE2A860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AA0D9-F044-4A4E-8A96-D163346D72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786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6360" y="4130640"/>
            <a:ext cx="786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BF304-F6D9-41F2-B362-FA18274B69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198108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6360" y="413064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6920" y="413064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31F56-FB88-49DD-9A08-65F3BFE1FB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253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6040" y="1981080"/>
            <a:ext cx="253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5720" y="1981080"/>
            <a:ext cx="253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76360" y="4130640"/>
            <a:ext cx="253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6040" y="4130640"/>
            <a:ext cx="253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5720" y="4130640"/>
            <a:ext cx="253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8A1E7-347F-4AC9-B515-84E32EDA10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76360" y="1981080"/>
            <a:ext cx="7866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786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383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06920" y="1981080"/>
            <a:ext cx="383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6360" y="914040"/>
            <a:ext cx="7850160" cy="31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06920" y="1981080"/>
            <a:ext cx="383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76360" y="413064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76360" y="1981080"/>
            <a:ext cx="7866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35A29-4A44-42C2-9D53-DDCC5179E4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383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6920" y="198108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06920" y="413064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06920" y="198108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76360" y="4130640"/>
            <a:ext cx="786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786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6360" y="4130640"/>
            <a:ext cx="786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6920" y="198108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76360" y="413064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06920" y="413064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253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6040" y="1981080"/>
            <a:ext cx="253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95720" y="1981080"/>
            <a:ext cx="253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76360" y="4130640"/>
            <a:ext cx="253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6040" y="4130640"/>
            <a:ext cx="253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95720" y="4130640"/>
            <a:ext cx="253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786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48402-B552-4C19-9BC6-3B521EBF61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383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6920" y="1981080"/>
            <a:ext cx="383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FD888-DB6B-4ED0-BEB8-02B1850D17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2CA2-B881-492F-91EB-0E6B397822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6360" y="914040"/>
            <a:ext cx="7850160" cy="31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ED049-F03C-427A-A339-8CB4A25A7D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6920" y="1981080"/>
            <a:ext cx="383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76360" y="413064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B47E9-1093-4C6C-8FA8-FC5A242051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383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6920" y="198108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6920" y="413064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667F6-82DF-4019-881C-7933E117F2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6920" y="198108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76360" y="4130640"/>
            <a:ext cx="786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BA4DB-60C3-4BEA-B5F5-F63060BA06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1c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6360" y="1981080"/>
            <a:ext cx="786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76000" y="636228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77a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77aff"/>
                </a:solidFill>
                <a:latin typeface="Times New Roman"/>
              </a:rPr>
              <a:t>Page </a:t>
            </a:r>
            <a:fld id="{BA93A770-0B40-44F4-B89D-E53035A713D7}" type="slidenum">
              <a:rPr b="0" lang="en-US" sz="1000" spc="-1" strike="noStrike">
                <a:solidFill>
                  <a:srgbClr val="377a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Powerpoint graphic 1"/>
          <p:cNvPicPr/>
          <p:nvPr/>
        </p:nvPicPr>
        <p:blipFill>
          <a:blip r:embed="rId2"/>
          <a:stretch/>
        </p:blipFill>
        <p:spPr>
          <a:xfrm>
            <a:off x="152280" y="152280"/>
            <a:ext cx="7543800" cy="709560"/>
          </a:xfrm>
          <a:prstGeom prst="rect">
            <a:avLst/>
          </a:prstGeom>
          <a:ln w="0">
            <a:noFill/>
          </a:ln>
        </p:spPr>
      </p:pic>
      <p:pic>
        <p:nvPicPr>
          <p:cNvPr id="4" name="Picture 8" descr="3 Colour IB Hoz"/>
          <p:cNvPicPr/>
          <p:nvPr/>
        </p:nvPicPr>
        <p:blipFill>
          <a:blip r:embed="rId3"/>
          <a:stretch/>
        </p:blipFill>
        <p:spPr>
          <a:xfrm>
            <a:off x="7167600" y="304920"/>
            <a:ext cx="1295280" cy="393480"/>
          </a:xfrm>
          <a:prstGeom prst="rect">
            <a:avLst/>
          </a:prstGeom>
          <a:ln w="0">
            <a:noFill/>
          </a:ln>
        </p:spPr>
      </p:pic>
      <p:sp>
        <p:nvSpPr>
          <p:cNvPr id="5" name="Text Box 9"/>
          <p:cNvSpPr/>
          <p:nvPr/>
        </p:nvSpPr>
        <p:spPr>
          <a:xfrm>
            <a:off x="6049080" y="6377040"/>
            <a:ext cx="238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7aff"/>
                </a:solidFill>
                <a:latin typeface="Arial"/>
              </a:rPr>
              <a:t>© International Baccalaureate Organization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>
            <a:off x="611280" y="1589040"/>
            <a:ext cx="7810560" cy="0"/>
          </a:xfrm>
          <a:prstGeom prst="line">
            <a:avLst/>
          </a:prstGeom>
          <a:ln w="9360">
            <a:solidFill>
              <a:srgbClr val="7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Powerpoint graphic 2"/>
          <p:cNvPicPr/>
          <p:nvPr/>
        </p:nvPicPr>
        <p:blipFill>
          <a:blip r:embed="rId2"/>
          <a:stretch/>
        </p:blipFill>
        <p:spPr>
          <a:xfrm>
            <a:off x="228600" y="5530680"/>
            <a:ext cx="8686800" cy="1121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3 Colour IB Hoz"/>
          <p:cNvPicPr/>
          <p:nvPr/>
        </p:nvPicPr>
        <p:blipFill>
          <a:blip r:embed="rId3"/>
          <a:stretch/>
        </p:blipFill>
        <p:spPr>
          <a:xfrm>
            <a:off x="1066680" y="1066680"/>
            <a:ext cx="5181840" cy="15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1c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76360" y="1981080"/>
            <a:ext cx="786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74880" y="2789280"/>
            <a:ext cx="44956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1c4"/>
                </a:solidFill>
                <a:latin typeface="Arial"/>
              </a:rPr>
              <a:t>September 21, 2012</a:t>
            </a:r>
            <a:br>
              <a:rPr sz="3600"/>
            </a:br>
            <a:br>
              <a:rPr sz="2400"/>
            </a:br>
            <a:br>
              <a:rPr sz="2400"/>
            </a:br>
            <a:endParaRPr b="1" lang="en-US" sz="3600" spc="-1" strike="noStrike">
              <a:solidFill>
                <a:srgbClr val="0041c4"/>
              </a:solidFill>
              <a:latin typeface="Arial"/>
            </a:endParaRPr>
          </a:p>
        </p:txBody>
      </p:sp>
      <p:pic>
        <p:nvPicPr>
          <p:cNvPr id="91" name="Picture 5" descr="IB-MA Logo"/>
          <p:cNvPicPr/>
          <p:nvPr/>
        </p:nvPicPr>
        <p:blipFill>
          <a:blip r:embed="rId1"/>
          <a:stretch/>
        </p:blipFill>
        <p:spPr>
          <a:xfrm>
            <a:off x="6550200" y="1371600"/>
            <a:ext cx="248760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6600" y="78552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1c4"/>
                </a:solidFill>
                <a:latin typeface="Arial"/>
              </a:rPr>
              <a:t>Best Practices for Implementing Standard C: Curriculum</a:t>
            </a:r>
            <a:endParaRPr b="1" lang="en-US" sz="24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76360" y="1981080"/>
            <a:ext cx="786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 Statement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ystematic approach to teaching and learning impacts student achiev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quiry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what ways can teachers collaborate to impact student achievem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what extent is student initiated action promoted in your schoo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what was are we engaging students as think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f all teachers taught langua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what extent does engaging students with technology impact student achievem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does high impact feedback look li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093C6666-5792-4645-8CA9-B7BDCCD650DE}" type="slidenum">
              <a:rPr b="0" lang="en-US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C: Curriculum</a:t>
            </a:r>
            <a:endParaRPr b="1" lang="en-US" sz="28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76360" y="1631880"/>
            <a:ext cx="78660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dard C1: Collaborative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laborative planning and reflection supports the implementation of the IB programme(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5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Collaborative planning and reflection addresses the requirements of the programme(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5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Collaborative planning and reflection takes place regularly and systematical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5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Collaborative planning and reflection addresses vertical and horizontal articul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5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Collaborative planning and reflection ensures that all teachers have an overview of students’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5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rien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5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Collaborative planning and reflection is based on agreed expectations for student lea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5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 Collaborative planning and reflection incorporates differentiation for students’ learning needs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5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y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5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 Collaborative planning and reflection is informed by assessment of student work and lea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5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 Collaborative planning and reflection recognizes that all teachers are responsible for language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5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stud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5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. Collaborative planning and reflection addresses the IB learner profile attribute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5B69CC52-1914-42CA-A2B8-59D01EE38EB1}" type="slidenum">
              <a:rPr b="0" lang="en-US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IB-MA Logo"/>
          <p:cNvPicPr/>
          <p:nvPr/>
        </p:nvPicPr>
        <p:blipFill>
          <a:blip r:embed="rId1"/>
          <a:stretch/>
        </p:blipFill>
        <p:spPr>
          <a:xfrm>
            <a:off x="7586640" y="701640"/>
            <a:ext cx="110340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c4"/>
                </a:solidFill>
                <a:latin typeface="Arial"/>
              </a:rPr>
              <a:t>Standard C2: Written curriculum</a:t>
            </a:r>
            <a:br>
              <a:rPr sz="3200"/>
            </a:br>
            <a:endParaRPr b="1" lang="en-US" sz="32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76360" y="1981080"/>
            <a:ext cx="786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school’s written curriculum reflects IB philoso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 written curriculum is comprehensive and aligns with the requirements of the programme(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written curriculum is available to the school commun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written curriculum builds on students’ previous learning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The written curriculum identifies the knowledge, concepts, skills and attitudes to be developed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The written curriculum allows for meaningful student action in response to students’ own need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eds of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The written curriculum incorporates relevant experiences for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The written curriculum promotes students’ awareness of individual, local, national and world 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The written curriculum provides opportunities for reflection on human commonality, diversity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pec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The written curriculum is informed by current IB publications and is reviewed regularly to incorp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s in the programme(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The written curriculum integrates the policies developed by the school to support the programme(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The written curriculum fosters development of the IB learner profile attrib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4B751DC4-438F-4B50-9BF7-594AE63512B7}" type="slidenum">
              <a:rPr b="0" lang="en-US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c4"/>
                </a:solidFill>
                <a:latin typeface="Arial"/>
              </a:rPr>
              <a:t>Standard C3: Teaching and learning</a:t>
            </a:r>
            <a:br>
              <a:rPr sz="3200"/>
            </a:br>
            <a:endParaRPr b="1" lang="en-US" sz="32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76360" y="1981080"/>
            <a:ext cx="786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aching and learning reflects IB philoso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eaching and learning aligns with the requirements of the programme(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eaching and learning engages students as inquirers and think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eaching and learning builds on what students know and can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Teaching and learning promotes the understanding and practice of academic hones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Teaching and learning supports students to become actively responsible for their own lear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Teaching and learning addresses human commonality, diversity and multiple perspec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Teaching and learning addresses the diversity of student language needs, including those for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in a language(s) other than mother tong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Teaching and learning demonstrates that all teachers are responsible for language development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Teaching and learning uses a range and variety of strateg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Teaching and learning differentiates instruction to meet students’ learning needs and sty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Teaching and learning incorporates a range of resources, including information technolog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 Teaching and learning develops student attitudes and skills that allow for meaningful student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response to students’ own needs and the needs of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 Teaching and learning engages students in reflecting on how, what and why they are lear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 Teaching and learning fosters a stimulating learning environment based on understanding and respec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2FC2BC60-8A16-4A66-AC8B-C4B19FE5AACA}" type="slidenum">
              <a:rPr b="0" lang="en-US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c4"/>
                </a:solidFill>
                <a:latin typeface="Arial"/>
              </a:rPr>
              <a:t>Standard C4: Assessment</a:t>
            </a:r>
            <a:br>
              <a:rPr sz="3200"/>
            </a:br>
            <a:endParaRPr b="1" lang="en-US" sz="32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76360" y="1981080"/>
            <a:ext cx="786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essment at the school reflects IB assessment philoso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ssessment at the school aligns with the requirements of the programme(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school communicates its assessment philosophy, policy and procedures to the school commun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school uses a range of strategies and tools to assess student lear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The school provides students with feedback to inform and improve their lear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The school has systems for recording student progress aligned with the assessment philosophy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amme(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The school has systems for reporting student progress aligned with the assessment philosophy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amme(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The school analyses assessment data to inform teaching and lear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The school provides opportunities for students to participate in, and reflect on, the assessment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The school has systems in place to ensure that all students can demonstrate consolidation of the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through the completion of the Primary Years Programme exhibition, the Middle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amme personal project and the Diploma Programme extended essay, depending o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amme(s) off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CBD4CBBF-8432-4511-BB04-A23FF2FE106B}" type="slidenum">
              <a:rPr b="0" lang="en-US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1c4"/>
                </a:solidFill>
                <a:latin typeface="Arial"/>
              </a:rPr>
              <a:t>Standard Conversation</a:t>
            </a: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76360" y="1770120"/>
            <a:ext cx="786600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e participants into five group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one person to be the anchor of each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person will remain at the table and facilitate the conversation.  That person will also take notes and be responsible for summarizing the conversation at the en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ill type up the ideas for all groups and post the IBMA websit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nts will move five times (won’t get to one group) and discuss the question at hand for seven  minut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start of each switch have the anchor summarize the conversation from the group before it – this will help keep the conversation evolving, deepening, and expanding with new idea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1D631EFD-3233-44B9-9E49-4D50E33DFDE4}" type="slidenum">
              <a:rPr b="0" lang="en-US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1c4"/>
                </a:solidFill>
                <a:latin typeface="Arial"/>
              </a:rPr>
              <a:t>Stations</a:t>
            </a: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474EE91F-1DBD-4ED6-AA32-15A5FE0B466C}" type="slidenum">
              <a:rPr b="0" lang="en-US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44520" y="1641600"/>
          <a:ext cx="8435880" cy="3840120"/>
        </p:xfrm>
        <a:graphic>
          <a:graphicData uri="http://schemas.openxmlformats.org/drawingml/2006/table">
            <a:tbl>
              <a:tblPr/>
              <a:tblGrid>
                <a:gridCol w="2108160"/>
                <a:gridCol w="1333440"/>
                <a:gridCol w="2884680"/>
                <a:gridCol w="2109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ion 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iding Ques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ilit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C1: Collaborative Plan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what ways can teachers collaborate to impact student achievemen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ri Lancas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C2:5-7 Written Curriculum: 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what extent is student initiated action promoted in your school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ie Cass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C3: Engages students as inquirers and think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what was are we engaging students as thinker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by Rogovo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C3. 8Teaching and Learning Languag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f all teachers taught languag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lota Shewchu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C4.4  Feedback and Assess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does high impact feedback look lik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ra La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c4"/>
                </a:solidFill>
                <a:latin typeface="Arial"/>
              </a:rPr>
              <a:t>Polleverywhere.com</a:t>
            </a:r>
            <a:endParaRPr b="1" lang="en-US" sz="32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07960" y="1676520"/>
            <a:ext cx="786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symbol best represents the relationship between effective communication and collabo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576360" y="6075360"/>
            <a:ext cx="19047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77aff"/>
                </a:solidFill>
                <a:latin typeface="Arial"/>
              </a:rPr>
              <a:t>Decode the Puzz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MP900422761[1]"/>
          <p:cNvPicPr/>
          <p:nvPr/>
        </p:nvPicPr>
        <p:blipFill>
          <a:blip r:embed="rId1"/>
          <a:stretch/>
        </p:blipFill>
        <p:spPr>
          <a:xfrm>
            <a:off x="6523200" y="2536920"/>
            <a:ext cx="1912680" cy="1912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soup%20can%20telephone"/>
          <p:cNvPicPr/>
          <p:nvPr/>
        </p:nvPicPr>
        <p:blipFill>
          <a:blip r:embed="rId2"/>
          <a:stretch/>
        </p:blipFill>
        <p:spPr>
          <a:xfrm>
            <a:off x="1700280" y="4618080"/>
            <a:ext cx="2733480" cy="1676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5680794746_84341aecb1"/>
          <p:cNvPicPr/>
          <p:nvPr/>
        </p:nvPicPr>
        <p:blipFill>
          <a:blip r:embed="rId3"/>
          <a:stretch/>
        </p:blipFill>
        <p:spPr>
          <a:xfrm>
            <a:off x="4070520" y="2689200"/>
            <a:ext cx="1638000" cy="2184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direct-communication-thumb826311"/>
          <p:cNvPicPr/>
          <p:nvPr/>
        </p:nvPicPr>
        <p:blipFill>
          <a:blip r:embed="rId4"/>
          <a:stretch/>
        </p:blipFill>
        <p:spPr>
          <a:xfrm>
            <a:off x="5222880" y="4703760"/>
            <a:ext cx="2844720" cy="21114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4"/>
          <p:cNvSpPr/>
          <p:nvPr/>
        </p:nvSpPr>
        <p:spPr>
          <a:xfrm>
            <a:off x="728640" y="2895480"/>
            <a:ext cx="7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3773520" y="2789280"/>
            <a:ext cx="7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5651640" y="2638440"/>
            <a:ext cx="7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7"/>
          <p:cNvSpPr/>
          <p:nvPr/>
        </p:nvSpPr>
        <p:spPr>
          <a:xfrm>
            <a:off x="1181160" y="4619520"/>
            <a:ext cx="7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4297320" y="4838760"/>
            <a:ext cx="7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9" descr="MP900442889[1]"/>
          <p:cNvPicPr/>
          <p:nvPr/>
        </p:nvPicPr>
        <p:blipFill>
          <a:blip r:embed="rId5"/>
          <a:stretch/>
        </p:blipFill>
        <p:spPr>
          <a:xfrm>
            <a:off x="1181160" y="2874960"/>
            <a:ext cx="248292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1c4"/>
                </a:solidFill>
                <a:latin typeface="Arial"/>
              </a:rPr>
              <a:t>Significant Concept</a:t>
            </a: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44CCE52D-DE29-43B9-942E-DD071DC091AA}" type="slidenum">
              <a:rPr b="0" lang="en-US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4680" y="2057400"/>
            <a:ext cx="9134640" cy="27432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/>
          <p:cNvSpPr/>
          <p:nvPr/>
        </p:nvSpPr>
        <p:spPr>
          <a:xfrm>
            <a:off x="530280" y="4768920"/>
            <a:ext cx="33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ticulate Extrabold"/>
              </a:rPr>
              <a:t>Broad and Bal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ticulate Extrabold"/>
              </a:rPr>
              <a:t>Concep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ticulate Extrabold"/>
              </a:rPr>
              <a:t>Conn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eft-Right Arrow 5"/>
          <p:cNvSpPr/>
          <p:nvPr/>
        </p:nvSpPr>
        <p:spPr>
          <a:xfrm>
            <a:off x="3627360" y="5200560"/>
            <a:ext cx="1878120" cy="482760"/>
          </a:xfrm>
          <a:prstGeom prst="leftRightArrow">
            <a:avLst>
              <a:gd name="adj1" fmla="val 50000"/>
              <a:gd name="adj2" fmla="val 49909"/>
            </a:avLst>
          </a:prstGeom>
          <a:solidFill>
            <a:srgbClr val="4fed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IB-MA Logo"/>
          <p:cNvPicPr/>
          <p:nvPr/>
        </p:nvPicPr>
        <p:blipFill>
          <a:blip r:embed="rId2"/>
          <a:stretch/>
        </p:blipFill>
        <p:spPr>
          <a:xfrm>
            <a:off x="6058080" y="4522680"/>
            <a:ext cx="206352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1c4"/>
                </a:solidFill>
                <a:latin typeface="Arial"/>
              </a:rPr>
              <a:t>Upcoming Meetings</a:t>
            </a: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B959224F-B055-498B-846C-D3B4C4AC57BF}" type="slidenum">
              <a:rPr b="0" lang="en-US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61800" y="1658880"/>
          <a:ext cx="8415360" cy="4961160"/>
        </p:xfrm>
        <a:graphic>
          <a:graphicData uri="http://schemas.openxmlformats.org/drawingml/2006/table">
            <a:tbl>
              <a:tblPr/>
              <a:tblGrid>
                <a:gridCol w="2806920"/>
                <a:gridCol w="2803320"/>
                <a:gridCol w="280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19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ison HS, Alexandria, 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quiry  September 28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Washington 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xandria, 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ching Math through Inqui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8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ege Gardens Elemen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 A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de H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. Meade, M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boration in Single Subje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. 7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ish A Language and Liter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2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andale 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leidoscope Becoming Internationally Mind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 11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sa Parks 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uage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14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 Mill 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P Coordinators Retr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3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hington D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1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F56EABC0-D9CF-4CC3-B0B3-B79D6F34F690}" type="slidenum">
              <a:rPr b="0" lang="en-GB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914040"/>
            <a:ext cx="7842240" cy="80964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41c4"/>
                </a:solidFill>
                <a:latin typeface="Arial"/>
              </a:rPr>
              <a:t>Welcome and Introductions</a:t>
            </a:r>
            <a:br>
              <a:rPr sz="2400"/>
            </a:br>
            <a:br>
              <a:rPr sz="2400"/>
            </a:br>
            <a:endParaRPr b="1" lang="en-US" sz="32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1050840" y="2057400"/>
            <a:ext cx="7102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heesh Misra, President of IB Mid-Atlant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IB-MA Logo"/>
          <p:cNvPicPr/>
          <p:nvPr/>
        </p:nvPicPr>
        <p:blipFill>
          <a:blip r:embed="rId1"/>
          <a:stretch/>
        </p:blipFill>
        <p:spPr>
          <a:xfrm>
            <a:off x="7556400" y="716040"/>
            <a:ext cx="110340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1c4"/>
                </a:solidFill>
                <a:latin typeface="Arial"/>
              </a:rPr>
              <a:t>QR Code</a:t>
            </a: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pic>
        <p:nvPicPr>
          <p:cNvPr id="175" name="Content Placeholder 2" descr=""/>
          <p:cNvPicPr/>
          <p:nvPr/>
        </p:nvPicPr>
        <p:blipFill>
          <a:blip r:embed="rId1"/>
          <a:stretch/>
        </p:blipFill>
        <p:spPr>
          <a:xfrm>
            <a:off x="2781360" y="1681200"/>
            <a:ext cx="3494160" cy="2959200"/>
          </a:xfrm>
          <a:prstGeom prst="rect">
            <a:avLst/>
          </a:prstGeom>
          <a:ln w="0">
            <a:noFill/>
          </a:ln>
        </p:spPr>
      </p:pic>
      <p:sp>
        <p:nvSpPr>
          <p:cNvPr id="176" name="Slide Number Placeholder 3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295D4C4A-2BD9-4AD6-8286-7D0A55ACB91A}" type="slidenum">
              <a:rPr b="0" lang="en-US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1c4"/>
                </a:solidFill>
                <a:latin typeface="Arial"/>
              </a:rPr>
              <a:t>Updates</a:t>
            </a:r>
            <a:endParaRPr b="1" lang="en-US" sz="36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42720" y="1515960"/>
            <a:ext cx="315252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BMA Memb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BMA Academy 201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BMA Academy 2013 8/7-8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coming Coordinator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vember 9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dministration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vernment University Liaison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BMA Orien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A7296B93-C255-4555-B361-BED0A79DF67F}" type="slidenum">
              <a:rPr b="0" lang="en-GB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IB-MA Logo"/>
          <p:cNvPicPr/>
          <p:nvPr/>
        </p:nvPicPr>
        <p:blipFill>
          <a:blip r:embed="rId1"/>
          <a:stretch/>
        </p:blipFill>
        <p:spPr>
          <a:xfrm>
            <a:off x="7602480" y="746280"/>
            <a:ext cx="1103400" cy="110808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2"/>
          <p:cNvSpPr/>
          <p:nvPr/>
        </p:nvSpPr>
        <p:spPr>
          <a:xfrm>
            <a:off x="155520" y="-109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307800" y="42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6334200" y="1895400"/>
            <a:ext cx="2760480" cy="35244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3652920" y="3068640"/>
            <a:ext cx="2135160" cy="15570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t Out for IBMA at the IB Regional Confere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5"/>
          <p:cNvCxnSpPr/>
          <p:nvPr/>
        </p:nvCxnSpPr>
        <p:spPr>
          <a:xfrm flipV="1">
            <a:off x="5859000" y="3655800"/>
            <a:ext cx="375480" cy="2577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1c4"/>
                </a:solidFill>
                <a:latin typeface="Arial"/>
              </a:rPr>
              <a:t>Mission and Vision of the IBMA</a:t>
            </a: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6000" y="1981080"/>
            <a:ext cx="829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Miss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ission of IBMA is to create a dynamic collaborative environment that inspires all members to serve and advocate for IB World Schools in the Mid-Atlantic Reg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Vi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 – PARTICIPATION –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TION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: To develop management systems that lead to high efficiency and effec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tion: To aspire to full participation of all stake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tion:  To have high relevance for all stake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: To provide valuable programming for all stake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9200" y="2743200"/>
            <a:ext cx="8416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1c4"/>
                </a:solidFill>
                <a:latin typeface="Arial"/>
              </a:rPr>
              <a:t>Rebooting Your IB Programme: Best Practices for Implementing Standard C: Curriculum</a:t>
            </a:r>
            <a:br>
              <a:rPr sz="3200"/>
            </a:b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1c4"/>
                </a:solidFill>
                <a:latin typeface="Arial"/>
              </a:rPr>
              <a:t>Where Do Good Ideas Come From?</a:t>
            </a: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0E27B250-EB09-442F-B8D5-AE9E65D10245}" type="slidenum">
              <a:rPr b="0" lang="en-US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1c4"/>
                </a:solidFill>
                <a:latin typeface="Arial"/>
              </a:rPr>
              <a:t>What is an IB education?</a:t>
            </a: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4CFAD03C-9D85-4F21-8857-2ADCE7FDA299}" type="slidenum">
              <a:rPr b="0" lang="en-US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2265480" y="3549600"/>
            <a:ext cx="4346280" cy="2631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88790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c4"/>
                </a:solidFill>
                <a:latin typeface="Arial"/>
              </a:rPr>
              <a:t>Polleverywhere.com</a:t>
            </a:r>
            <a:endParaRPr b="1" lang="en-US" sz="32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07960" y="1676520"/>
            <a:ext cx="786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symbol best represents the relationship between effective communication and collabo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576360" y="6075360"/>
            <a:ext cx="19047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77aff"/>
                </a:solidFill>
                <a:latin typeface="Arial"/>
              </a:rPr>
              <a:t>Decode the Puzz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MP900422761[1]"/>
          <p:cNvPicPr/>
          <p:nvPr/>
        </p:nvPicPr>
        <p:blipFill>
          <a:blip r:embed="rId1"/>
          <a:stretch/>
        </p:blipFill>
        <p:spPr>
          <a:xfrm>
            <a:off x="6523200" y="2536920"/>
            <a:ext cx="1912680" cy="1912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soup%20can%20telephone"/>
          <p:cNvPicPr/>
          <p:nvPr/>
        </p:nvPicPr>
        <p:blipFill>
          <a:blip r:embed="rId2"/>
          <a:stretch/>
        </p:blipFill>
        <p:spPr>
          <a:xfrm>
            <a:off x="1700280" y="4618080"/>
            <a:ext cx="2733480" cy="1676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5680794746_84341aecb1"/>
          <p:cNvPicPr/>
          <p:nvPr/>
        </p:nvPicPr>
        <p:blipFill>
          <a:blip r:embed="rId3"/>
          <a:stretch/>
        </p:blipFill>
        <p:spPr>
          <a:xfrm>
            <a:off x="4070520" y="2689200"/>
            <a:ext cx="1638000" cy="2184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direct-communication-thumb826311"/>
          <p:cNvPicPr/>
          <p:nvPr/>
        </p:nvPicPr>
        <p:blipFill>
          <a:blip r:embed="rId4"/>
          <a:stretch/>
        </p:blipFill>
        <p:spPr>
          <a:xfrm>
            <a:off x="5222880" y="4703760"/>
            <a:ext cx="2844720" cy="21114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4"/>
          <p:cNvSpPr/>
          <p:nvPr/>
        </p:nvSpPr>
        <p:spPr>
          <a:xfrm>
            <a:off x="728640" y="2895480"/>
            <a:ext cx="7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773520" y="2789280"/>
            <a:ext cx="7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5651640" y="2638440"/>
            <a:ext cx="7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181160" y="4619520"/>
            <a:ext cx="7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4297320" y="4838760"/>
            <a:ext cx="7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9" descr="MP900442889[1]"/>
          <p:cNvPicPr/>
          <p:nvPr/>
        </p:nvPicPr>
        <p:blipFill>
          <a:blip r:embed="rId5"/>
          <a:stretch/>
        </p:blipFill>
        <p:spPr>
          <a:xfrm>
            <a:off x="1181160" y="2874960"/>
            <a:ext cx="248292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1c4"/>
                </a:solidFill>
                <a:latin typeface="Arial"/>
              </a:rPr>
              <a:t>Polleverywhere.com</a:t>
            </a: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pic>
        <p:nvPicPr>
          <p:cNvPr id="128" name="Content Placeholder 3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4803480" cy="37638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4197240" y="5211720"/>
            <a:ext cx="450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Peas in a Pod 4014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 to Women 4832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es to Oranges 4832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6T08:54:50Z</dcterms:created>
  <dc:creator>DavidCl</dc:creator>
  <dc:description/>
  <dc:language>en-US</dc:language>
  <cp:lastModifiedBy>Hanover County Public Schools</cp:lastModifiedBy>
  <dcterms:modified xsi:type="dcterms:W3CDTF">2012-09-21T15:47:59Z</dcterms:modified>
  <cp:revision>59</cp:revision>
  <dc:subject/>
  <dc:title>Slide 1</dc:title>
</cp:coreProperties>
</file>