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521-352D-4897-A33F-E676CC0D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839-46F6-4657-BBC1-D06E123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7AFD5-A0DE-4466-866F-6CEDC365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51D01-B89D-42D7-AD0C-21F9E391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2B0B9-1A2A-4A0B-A5EF-08027C7B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56E21-0B09-484D-8A35-BD70E4F4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F55A6-B085-401A-8357-190BA8D8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48A35-5966-4C5F-AEA2-CB7C86D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AB902-83FC-49D2-8D97-610CD948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5B627-A265-4F69-8D71-0B282901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79085-6635-40C5-AD38-0E0E4120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B6702-0DDF-4311-AD94-C94F5D33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ABE-41AA-45E9-B6AE-828CD00C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A4E2C-E64A-44B7-844E-49B8428C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EEA14-2341-4F86-B9C8-91D201BB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4BA9F-CA47-469B-8E5B-E276E35E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D20C5-C9D3-4128-A2CC-98FE8CD1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84B9B-3EE0-4FD1-9835-B2BC0ACD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7EF54-1AD7-4A54-8DE2-99D3FE15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17EC3-3A70-45C5-8D89-0EC669E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1B69E-194F-473A-B14A-A6F07280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C256-0779-4FA1-8ADE-823F76F8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9CDB3-FDC5-4307-810C-3B250B3C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3FE-0345-4CBC-89C1-47064317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BD258-3365-4701-952D-B9DB385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A23B1-7D5D-4383-9E1A-2E8E9649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6100-3F95-4341-AB36-8241DB9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52156-6C2A-4923-8159-D2BE96C6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87A8-5DE0-4DCF-9C53-EABC5AF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05FFC-9C7F-4840-98C6-BD44FE27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41E37-D3AB-40D3-B8D1-C404288F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13947-70CF-401A-AEC4-A8C62AB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1171-27CC-468B-8042-094AFC2B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CE9D5-AFFE-4AEA-A914-3829B886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AB88-5742-4EE1-AA16-047F3053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B7546-C459-4E96-B96B-66CFCBEE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FE023-721A-48DC-AB6E-CC5CB7D6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72D8B-6261-4140-856E-F57E3F84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9181D-FA1B-4A4B-95AE-154F5BB9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1B220-65EE-4A7B-890C-756F51CB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7CB5F-FCB1-48A6-B306-9F9C9D2F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41C9D-D9A6-4CB5-B865-BEFA1BBA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A82CC-C8FE-4548-9F27-B4956DC6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19604-4230-4694-89CE-F3AC90D9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F82D3-4FFA-4781-B410-3B399F74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E58-4524-456B-B5AB-E89C550F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1D2EB-02CA-4992-8136-FB8D747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32BA2-4C3A-4CAD-9552-9C9608E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3C076-6D01-4A5F-85BD-3AF3FF06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AF25E5-EA05-4567-8212-08C74CDB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A31B9-BAE3-408B-A15E-6457FDDB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C1A6-8738-446B-A993-8AF95D5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E11B-248E-4F06-94F0-C7AECBE4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E615-E036-4F6C-B6E0-E5AF56E8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C95C-9CEF-4978-94A2-CF5DCAD8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125C-A819-4871-BEEB-95D63B8D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94C-1758-4709-A815-9F79942B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2593-B7A2-4366-A38F-697E6875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19D0-B35E-4FC2-B1E4-7E14AAB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2829-A824-45D4-AB95-19D001C2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61DA-9E1B-4618-8C6B-73BDFFE7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6006-8BFC-4D98-8833-A8FF2B69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3068-9F40-42E4-ADC1-6CBBDF07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8C04A-9656-4CCE-8C49-F8221557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7F4BE-E977-4CCC-AE4E-D7122DD3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AF463-CA9D-45FD-9194-CCCAA76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0C75-9737-4151-898D-A0696EE1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C1D-B485-480E-9509-0F062B31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B9B19-65DD-40B5-830B-C934459D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FACA1-A196-4FFE-9A6C-5F9AEA94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08098-30CD-4266-B848-78E9D20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0978-1619-4BB0-B97C-154137D9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C401-7C51-41BC-A1AE-BF485277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05526-0AED-4C56-A800-C5441C5E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0C3B-C311-49E9-89DE-12B008DF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A155-C707-4160-99E0-3E5B8D17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AEB0-9AE5-474C-B3FC-A99092C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388B-660E-4516-8C92-5361107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C65-9D15-44E7-971B-B7269CB4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243D-14C3-4B38-A214-AA97A1C0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F966-B9C7-4377-A45B-5B15321D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883B-4445-486B-B84D-93B97DFA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954C-9056-4751-8445-9B560CF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8EF8-331E-481E-B0B9-B4445371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9EE3-7381-445C-9C4B-F8CB54B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3C70D-982C-4467-B1AF-35560B1D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97058-6B82-4D8F-829C-EB2282F9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6F63-4960-49A3-ACC8-8D208932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48AD7-A8FA-40D2-A9FA-DEFCC9DA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089-2BD4-4BBF-B9DD-8BC90D11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2C9BC-AB9F-4B3E-A911-CAE5220C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30ABB-D582-4FAF-830A-276ABEBB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2A5E-8DCC-4AFE-889E-AE686DEC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7B63-34B2-48E0-88F1-4D12C0D3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22AE6-AA7C-483F-9116-5870992B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6B41-CFAC-42BF-A1EC-DEC4AE83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48CA-C3D2-45CF-9CCD-677ED359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BA04F-6F72-4B4A-B64D-E22142FA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B9A89-D4E5-4150-8EF3-6C874FED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FB56-9414-4A57-AEFE-DACE347A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937-ED30-4318-A20C-965524E9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957C-494D-4A2D-93C0-E466716F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E093-09AE-4892-B260-E2462E3F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2B6A-7F3F-4A83-92AB-C3C426BF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E90D-D336-4B7D-817A-0621815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5AC0A-2DE1-4341-97AD-D4ED835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EFCF-AC4A-4177-9860-79F166DD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A83A5-F02A-4CF7-9C4F-CDD7849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72CD0-9DAD-48BF-BE40-6944607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9EEFE-8A59-4A5D-876B-DB4529FF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C6651-8BA3-4396-8DB9-483341C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266-09A1-41E4-BD34-EEFE309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C093A-8AEE-4505-B17D-5258EBC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BCD1-993D-451B-A074-8DF58130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3E08-E0F5-4289-BB8A-5D877A23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C888B-2565-4D6D-8167-8E90BDD7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91F14-0BD3-4B32-8A86-DB293606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CC749-E325-4EDF-BFE0-F8DEC7E3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17F94-FDD0-4279-89AC-6548629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B80AA-F89A-482A-83A2-543905CD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EAFB5-D167-4397-93F8-2299F546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F099C-4671-4A84-A52A-EC7CD1D7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F88-34D7-45ED-96CC-8D185DE0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EB147-6470-48C4-B7F6-1C95288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5455B-4C73-4D3B-A99F-81722CE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2E0D-79C7-43D6-A987-C5182F9E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90D4-BC42-4842-9B30-81A2203C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55AB-848D-4D54-8F3A-7A4BC030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962C3-3179-430D-92A3-82471917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2AD45-BB2F-4015-93CC-B58F50EF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8BB5F-0DC3-4080-9208-E0F6677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7DC58-3CEA-4B66-A8C3-C3E6B041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DFA0A-6650-4F0E-A0A4-ACC0DE17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1D9E-42C8-4AD8-A1B0-C74C2D9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B5451-5E47-411B-AB81-C98EFC6D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987E3-76FE-4410-8A5D-CE172B17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2404-262E-4189-BF59-44C8066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269A-0177-4AE4-B938-DBE331C7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6E632-CAE5-4D97-B820-4A6DD1B9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C5CBC-6B56-4E66-AA75-358DDC28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E0039-1F41-41ED-9515-F539063A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068F5-C747-4BEC-93AA-6DF70DDA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8B0DF-3D89-4265-B1DE-B3C37718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3BA28-859E-480E-A351-CE7A59C7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7C47-AE99-44F0-AEE2-7824C43AC9E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C5A1-51CF-4D9B-8933-5DF5A309F82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94D0-40A8-41A9-9DFB-59F49205FFB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4411-6352-4C35-83CA-992CF2309A9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7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EDE4-6E16-4870-A86E-F990DFECE3E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FA7-7C7A-45CA-8113-9F83A072204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2116-A1BC-415F-B37D-D379B168454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392C-7CD3-49F3-80B3-C129F6E9445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ECFC-EAA5-49B0-9DD1-DA2344C3380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B8C7-B54F-4ABC-90F8-9155931A416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4F2-FD54-430B-A4BD-4B8A7A94BC09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8375-6AF5-4B9F-8168-3AFE4A433CF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chooltube.com/video/6c47104853ffc49a1caa/Reading%20in%20the%20Content%20Area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ading Across the Curriculum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Connect and Apply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New Knowledge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Reread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Skim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Discuss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Write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Question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Synthesize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73e87"/>
                </a:solidFill>
                <a:latin typeface="Kristen ITC"/>
              </a:rPr>
              <a:t>Evaluate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8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Paraphrase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Role Play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Reflect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Debate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Simulation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Oral presentation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73e87"/>
                </a:solidFill>
                <a:latin typeface="Kristen ITC"/>
              </a:rPr>
              <a:t>Project</a:t>
            </a: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7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04920" y="203184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In what ways might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we support teachers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to ensure students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move beyond recall to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84d3"/>
                </a:solidFill>
                <a:latin typeface="Kristen ITC"/>
              </a:rPr>
              <a:t>application, </a:t>
            </a: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analysis</a:t>
            </a:r>
            <a:r>
              <a:rPr b="0" lang="en-US" sz="3600" spc="-1" strike="noStrike">
                <a:solidFill>
                  <a:srgbClr val="4584d3"/>
                </a:solidFill>
                <a:latin typeface="Kristen ITC"/>
              </a:rPr>
              <a:t>, synthesis</a:t>
            </a: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 and </a:t>
            </a: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evaluation</a:t>
            </a: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 of information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Higher-Order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Thinking Skills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Teacher     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Text:  Text Structur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18284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584d3"/>
                </a:solidFill>
                <a:latin typeface="Kristen ITC"/>
              </a:rPr>
              <a:t>Science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problem-solv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classific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experimenta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cause and effe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definition/explan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647960" y="18288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4d3"/>
                </a:solidFill>
                <a:latin typeface="Kristen ITC"/>
              </a:rPr>
              <a:t>Social Studie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chronological even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definition/ explana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cause and effec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compare/contras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question &amp; answ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2666880" y="762120"/>
            <a:ext cx="905040" cy="380880"/>
          </a:xfrm>
          <a:prstGeom prst="rightArrow">
            <a:avLst>
              <a:gd name="adj1" fmla="val 50000"/>
              <a:gd name="adj2" fmla="val 59405"/>
            </a:avLst>
          </a:prstGeom>
          <a:solidFill>
            <a:srgbClr val="4584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Teacher     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Text:  Text Structur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228240" y="12949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4d3"/>
                </a:solidFill>
                <a:latin typeface="Kristen ITC"/>
              </a:rPr>
              <a:t>Math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key word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graphic relationship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evidence &amp; reasoning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symbolic relationships &amp; operation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4647960" y="13716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4d3"/>
                </a:solidFill>
                <a:latin typeface="Kristen ITC"/>
              </a:rPr>
              <a:t>Literatur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character development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settings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plot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moral &amp; messag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symbolism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3e87"/>
                </a:solidFill>
                <a:latin typeface="Kristen ITC"/>
              </a:rPr>
              <a:t>genre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4" name="AutoShape 5"/>
          <p:cNvSpPr/>
          <p:nvPr/>
        </p:nvSpPr>
        <p:spPr>
          <a:xfrm>
            <a:off x="2666880" y="838080"/>
            <a:ext cx="905040" cy="381240"/>
          </a:xfrm>
          <a:prstGeom prst="rightArrow">
            <a:avLst>
              <a:gd name="adj1" fmla="val 50000"/>
              <a:gd name="adj2" fmla="val 59348"/>
            </a:avLst>
          </a:prstGeom>
          <a:solidFill>
            <a:srgbClr val="4584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04920" y="14475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Informational texts permeate our everyday lives. To become 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reflective readers</a:t>
            </a: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 and writers, students need extensive and intensive experience with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engaging, high-interest</a:t>
            </a: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 selections. Strategies need to be modeled through many examples. Students need 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guided practice</a:t>
            </a: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 with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authentic reading materials</a:t>
            </a: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 as they are learning how to use each strategy. They also need opportunities for 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independent application</a:t>
            </a:r>
            <a:r>
              <a:rPr b="0" lang="en-US" sz="2400" spc="-1" strike="noStrike">
                <a:solidFill>
                  <a:srgbClr val="073e87"/>
                </a:solidFill>
                <a:latin typeface="Kristen ITC"/>
              </a:rPr>
              <a:t> of the strategies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Best Practice Instruction of Reading Strategie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4"/>
          <p:cNvSpPr/>
          <p:nvPr/>
        </p:nvSpPr>
        <p:spPr>
          <a:xfrm>
            <a:off x="609480" y="137160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tudents entering the adult world in the 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21st century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will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read and write more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than at any other time in human history.  They will need advanced levels of literacy to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 perform their job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run their households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, act as citize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, and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conduct their personal liv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.  They will need literacy to cope with the flood of information they will find everywhere they turn.  They will need literacy to </a:t>
            </a:r>
            <a:r>
              <a:rPr b="0" lang="en-US" sz="2400" spc="-1" strike="noStrike">
                <a:solidFill>
                  <a:srgbClr val="4584d3"/>
                </a:solidFill>
                <a:latin typeface="Kristen ITC"/>
              </a:rPr>
              <a:t>feed their imagination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so they can create the world of the future.  In a complex and sometimes even dangerous world, their ability to read will be crucial.  </a:t>
            </a:r>
            <a:r>
              <a:rPr b="0" lang="en-US" sz="2400" spc="-1" strike="noStrike">
                <a:solidFill>
                  <a:srgbClr val="0033cc"/>
                </a:solidFill>
                <a:latin typeface="Kristen ITC"/>
              </a:rPr>
              <a:t>Continual instruction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beyond the early grades i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----Moore, Bean, Birdyshaw, &amp; Rycik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Literacy in the 21</a:t>
            </a:r>
            <a:r>
              <a:rPr b="0" lang="en-US" sz="4400" spc="-1" strike="noStrike" baseline="30000">
                <a:solidFill>
                  <a:srgbClr val="0033cc"/>
                </a:solidFill>
                <a:latin typeface="Kristen ITC"/>
              </a:rPr>
              <a:t>st</a:t>
            </a: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 Centu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762120" y="2679840"/>
            <a:ext cx="770544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http://www.scholastic.com/internationalschools/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672" name="Picture 6" descr="Home_Photo_books"/>
          <p:cNvPicPr/>
          <p:nvPr/>
        </p:nvPicPr>
        <p:blipFill>
          <a:blip r:embed="rId1"/>
          <a:stretch/>
        </p:blipFill>
        <p:spPr>
          <a:xfrm>
            <a:off x="6875640" y="4307040"/>
            <a:ext cx="1641240" cy="1911240"/>
          </a:xfrm>
          <a:prstGeom prst="rect">
            <a:avLst/>
          </a:prstGeom>
          <a:ln w="0">
            <a:noFill/>
          </a:ln>
        </p:spPr>
      </p:pic>
      <p:sp>
        <p:nvSpPr>
          <p:cNvPr id="673" name="TextBox 1"/>
          <p:cNvSpPr/>
          <p:nvPr/>
        </p:nvSpPr>
        <p:spPr>
          <a:xfrm>
            <a:off x="1143000" y="10666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o Support Content Literacy in PY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228600" y="1828800"/>
            <a:ext cx="868680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73e87"/>
                </a:solidFill>
                <a:latin typeface="Kristen ITC"/>
              </a:rPr>
              <a:t>…</a:t>
            </a:r>
            <a:r>
              <a:rPr b="0" lang="en-US" sz="3700" spc="-1" strike="noStrike">
                <a:solidFill>
                  <a:srgbClr val="073e87"/>
                </a:solidFill>
                <a:latin typeface="Kristen ITC"/>
              </a:rPr>
              <a:t>refers to the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584d3"/>
                </a:solidFill>
                <a:latin typeface="Kristen ITC"/>
              </a:rPr>
              <a:t>challenge of reading</a:t>
            </a:r>
            <a:r>
              <a:rPr b="0" lang="en-US" sz="3700" spc="-1" strike="noStrike">
                <a:solidFill>
                  <a:srgbClr val="073e87"/>
                </a:solidFill>
                <a:latin typeface="Kristen ITC"/>
              </a:rPr>
              <a:t>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73e87"/>
                </a:solidFill>
                <a:latin typeface="Kristen ITC"/>
              </a:rPr>
              <a:t>in the academic areas such as </a:t>
            </a:r>
            <a:r>
              <a:rPr b="0" lang="en-US" sz="3700" spc="-1" strike="noStrike">
                <a:solidFill>
                  <a:srgbClr val="4584d3"/>
                </a:solidFill>
                <a:latin typeface="Kristen ITC"/>
              </a:rPr>
              <a:t>science, social studies, mathematics, literature</a:t>
            </a:r>
            <a:r>
              <a:rPr b="0" lang="en-US" sz="3700" spc="-1" strike="noStrike">
                <a:solidFill>
                  <a:srgbClr val="073e87"/>
                </a:solidFill>
                <a:latin typeface="Kristen ITC"/>
              </a:rPr>
              <a:t>,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 algn="ctr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73e87"/>
                </a:solidFill>
                <a:latin typeface="Kristen ITC"/>
              </a:rPr>
              <a:t>and the </a:t>
            </a:r>
            <a:r>
              <a:rPr b="0" lang="en-US" sz="3700" spc="-1" strike="noStrike">
                <a:solidFill>
                  <a:srgbClr val="4584d3"/>
                </a:solidFill>
                <a:latin typeface="Kristen ITC"/>
              </a:rPr>
              <a:t>arts</a:t>
            </a:r>
            <a:r>
              <a:rPr b="0" lang="en-US" sz="3700" spc="-1" strike="noStrike">
                <a:solidFill>
                  <a:srgbClr val="073e87"/>
                </a:solidFill>
                <a:latin typeface="Kristen ITC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Content Area Reading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838080" y="1447920"/>
            <a:ext cx="746784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“…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more than personally </a:t>
            </a:r>
            <a:r>
              <a:rPr b="1" lang="en-US" sz="3200" spc="-1" strike="noStrike">
                <a:solidFill>
                  <a:srgbClr val="4584d3"/>
                </a:solidFill>
                <a:latin typeface="Kristen ITC"/>
              </a:rPr>
              <a:t>reacting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to a text; it is, instead,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interacting</a:t>
            </a:r>
            <a:r>
              <a:rPr b="0" lang="en-US" sz="3200" spc="-1" strike="noStrike">
                <a:solidFill>
                  <a:srgbClr val="0033cc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with the text, </a:t>
            </a:r>
            <a:r>
              <a:rPr b="1" lang="en-US" sz="3200" spc="-1" strike="noStrike">
                <a:solidFill>
                  <a:srgbClr val="4584d3"/>
                </a:solidFill>
                <a:latin typeface="Kristen ITC"/>
              </a:rPr>
              <a:t>reasoning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with it to develop a hypothesis and justify it.  By using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accurate fact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1" lang="en-US" sz="3200" spc="-1" strike="noStrike">
                <a:solidFill>
                  <a:srgbClr val="4584d3"/>
                </a:solidFill>
                <a:latin typeface="Kristen ITC"/>
              </a:rPr>
              <a:t>inferences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from the text, readers can transform interpretations into </a:t>
            </a:r>
            <a:r>
              <a:rPr b="1" lang="en-US" sz="3200" spc="-1" strike="noStrike">
                <a:solidFill>
                  <a:srgbClr val="0033cc"/>
                </a:solidFill>
                <a:latin typeface="Kristen ITC"/>
              </a:rPr>
              <a:t>valid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and </a:t>
            </a:r>
            <a:r>
              <a:rPr b="1" lang="en-US" sz="3200" spc="-1" strike="noStrike">
                <a:solidFill>
                  <a:srgbClr val="4584d3"/>
                </a:solidFill>
                <a:latin typeface="Kristen ITC"/>
              </a:rPr>
              <a:t>reasonable</a:t>
            </a:r>
            <a:r>
              <a:rPr b="0" lang="en-US" sz="3200" spc="-1" strike="noStrike">
                <a:solidFill>
                  <a:srgbClr val="4584d3"/>
                </a:solidFill>
                <a:latin typeface="Kristen ITC"/>
              </a:rPr>
              <a:t> </a:t>
            </a:r>
            <a:r>
              <a:rPr b="1" lang="en-US" sz="3200" spc="-1" strike="noStrike">
                <a:solidFill>
                  <a:srgbClr val="4584d3"/>
                </a:solidFill>
                <a:latin typeface="Kristen ITC"/>
              </a:rPr>
              <a:t>thought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Kristen ITC"/>
              </a:rPr>
              <a:t>--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e Rosenblatt, 1978;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4026240" y="243000"/>
            <a:ext cx="358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Kristen ITC"/>
              </a:rPr>
              <a:t>Reading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ading Across the Content Area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Dean Chard Vide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228600" y="14475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What </a:t>
            </a:r>
            <a:r>
              <a:rPr b="0" lang="en-US" sz="3600" spc="-1" strike="noStrike">
                <a:solidFill>
                  <a:srgbClr val="4584d3"/>
                </a:solidFill>
                <a:latin typeface="Kristen ITC"/>
              </a:rPr>
              <a:t>challenges</a:t>
            </a: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 do teachers and students face when reading in the content areas?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584d3"/>
                </a:solidFill>
                <a:latin typeface="Kristen ITC"/>
              </a:rPr>
              <a:t>Brainstorm</a:t>
            </a: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 the possibilities with the people next to you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Kristen ITC"/>
              </a:rPr>
              <a:t>Let’s Reason Together…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7200" y="203184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Reading Traditions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Classroom/Curriculum priorities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Students avoid reading the book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73e87"/>
                </a:solidFill>
                <a:latin typeface="Kristen ITC"/>
              </a:rPr>
              <a:t>Students can’t read the book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705636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Challenges to </a:t>
            </a:r>
            <a:br>
              <a:rPr sz="4000"/>
            </a:b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Reading in the Content Are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73e87"/>
                </a:solidFill>
                <a:latin typeface="Kristen ITC"/>
              </a:rPr>
              <a:t>Integrating reading strategies into the teaching of science, social studies and math prepares students to </a:t>
            </a:r>
            <a:r>
              <a:rPr b="0" lang="en-US" sz="2700" spc="-1" strike="noStrike">
                <a:solidFill>
                  <a:srgbClr val="4584d3"/>
                </a:solidFill>
                <a:latin typeface="Kristen ITC"/>
              </a:rPr>
              <a:t>study new information</a:t>
            </a:r>
            <a:r>
              <a:rPr b="0" lang="en-US" sz="2700" spc="-1" strike="noStrike">
                <a:solidFill>
                  <a:srgbClr val="073e87"/>
                </a:solidFill>
                <a:latin typeface="Kristen ITC"/>
              </a:rPr>
              <a:t>, helps them </a:t>
            </a:r>
            <a:r>
              <a:rPr b="0" lang="en-US" sz="2700" spc="-1" strike="noStrike">
                <a:solidFill>
                  <a:srgbClr val="4584d3"/>
                </a:solidFill>
                <a:latin typeface="Kristen ITC"/>
              </a:rPr>
              <a:t>learn new vocabulary</a:t>
            </a:r>
            <a:r>
              <a:rPr b="0" lang="en-US" sz="2700" spc="-1" strike="noStrike">
                <a:solidFill>
                  <a:srgbClr val="073e87"/>
                </a:solidFill>
                <a:latin typeface="Kristen ITC"/>
              </a:rPr>
              <a:t>, </a:t>
            </a:r>
            <a:r>
              <a:rPr b="0" lang="en-US" sz="2700" spc="-1" strike="noStrike">
                <a:solidFill>
                  <a:srgbClr val="4584d3"/>
                </a:solidFill>
                <a:latin typeface="Kristen ITC"/>
              </a:rPr>
              <a:t>improves students’ comprehension</a:t>
            </a:r>
            <a:r>
              <a:rPr b="0" lang="en-US" sz="2700" spc="-1" strike="noStrike">
                <a:solidFill>
                  <a:srgbClr val="073e87"/>
                </a:solidFill>
                <a:latin typeface="Kristen ITC"/>
              </a:rPr>
              <a:t> of textbooks and trade books, and </a:t>
            </a:r>
            <a:r>
              <a:rPr b="0" lang="en-US" sz="2700" spc="-1" strike="noStrike">
                <a:solidFill>
                  <a:srgbClr val="4584d3"/>
                </a:solidFill>
                <a:latin typeface="Kristen ITC"/>
              </a:rPr>
              <a:t>enables students to learn and think</a:t>
            </a:r>
            <a:r>
              <a:rPr b="0" lang="en-US" sz="2700" spc="-1" strike="noStrike">
                <a:solidFill>
                  <a:srgbClr val="073e87"/>
                </a:solidFill>
                <a:latin typeface="Kristen ITC"/>
              </a:rPr>
              <a:t> with new ideas, concepts, and facts.</a:t>
            </a:r>
            <a:endParaRPr b="0" lang="en-US" sz="2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73e87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73e87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73e87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73e87"/>
                </a:solidFill>
                <a:latin typeface="Kristen ITC"/>
              </a:rPr>
              <a:t>	</a:t>
            </a:r>
            <a:r>
              <a:rPr b="0" lang="en-US" sz="2000" spc="-1" strike="noStrike">
                <a:solidFill>
                  <a:srgbClr val="073e87"/>
                </a:solidFill>
                <a:latin typeface="Kristen ITC"/>
              </a:rPr>
              <a:t>	</a:t>
            </a:r>
            <a:r>
              <a:rPr b="0" lang="en-US" sz="1700" spc="-1" strike="noStrike">
                <a:solidFill>
                  <a:srgbClr val="073e87"/>
                </a:solidFill>
                <a:latin typeface="Kristen ITC"/>
              </a:rPr>
              <a:t>Laura Robb, 2003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Kristen ITC"/>
              </a:rPr>
              <a:t>From Challenges to Solutions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90236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Classroom Support: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grpSp>
        <p:nvGrpSpPr>
          <p:cNvPr id="635" name="SmartArt Placeholder 285699"/>
          <p:cNvGrpSpPr/>
          <p:nvPr/>
        </p:nvGrpSpPr>
        <p:grpSpPr>
          <a:xfrm>
            <a:off x="802440" y="1686240"/>
            <a:ext cx="7538400" cy="4651200"/>
            <a:chOff x="802440" y="1686240"/>
            <a:chExt cx="7538400" cy="4651200"/>
          </a:xfrm>
        </p:grpSpPr>
        <p:sp>
          <p:nvSpPr>
            <p:cNvPr id="636" name="_s1028"/>
            <p:cNvSpPr/>
            <p:nvPr/>
          </p:nvSpPr>
          <p:spPr>
            <a:xfrm flipH="1" flipV="1">
              <a:off x="2757240" y="3430080"/>
              <a:ext cx="90972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1029"/>
            <p:cNvSpPr/>
            <p:nvPr/>
          </p:nvSpPr>
          <p:spPr>
            <a:xfrm>
              <a:off x="802440" y="25585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Kristen ITC"/>
                </a:rPr>
                <a:t>Print/Inform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Kristen ITC"/>
                </a:rPr>
                <a:t>Ric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Kristen ITC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030"/>
            <p:cNvSpPr/>
            <p:nvPr/>
          </p:nvSpPr>
          <p:spPr>
            <a:xfrm flipH="1">
              <a:off x="2757240" y="4302720"/>
              <a:ext cx="90972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1031"/>
            <p:cNvSpPr/>
            <p:nvPr/>
          </p:nvSpPr>
          <p:spPr>
            <a:xfrm>
              <a:off x="802440" y="43027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Leveled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Supported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Independen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Kristen ITC"/>
                </a:rPr>
                <a:t>Rea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1032"/>
            <p:cNvSpPr/>
            <p:nvPr/>
          </p:nvSpPr>
          <p:spPr>
            <a:xfrm>
              <a:off x="4571640" y="4591800"/>
              <a:ext cx="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033"/>
            <p:cNvSpPr/>
            <p:nvPr/>
          </p:nvSpPr>
          <p:spPr>
            <a:xfrm>
              <a:off x="3523680" y="5174640"/>
              <a:ext cx="2095560" cy="116280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Different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Instruc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1034"/>
            <p:cNvSpPr/>
            <p:nvPr/>
          </p:nvSpPr>
          <p:spPr>
            <a:xfrm>
              <a:off x="5475960" y="4302720"/>
              <a:ext cx="90972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035"/>
            <p:cNvSpPr/>
            <p:nvPr/>
          </p:nvSpPr>
          <p:spPr>
            <a:xfrm>
              <a:off x="6246000" y="43027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Higher-Ord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Thinking Skil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1036"/>
            <p:cNvSpPr/>
            <p:nvPr/>
          </p:nvSpPr>
          <p:spPr>
            <a:xfrm flipV="1">
              <a:off x="5475960" y="3430080"/>
              <a:ext cx="909720" cy="29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1037"/>
            <p:cNvSpPr/>
            <p:nvPr/>
          </p:nvSpPr>
          <p:spPr>
            <a:xfrm>
              <a:off x="6246000" y="2558520"/>
              <a:ext cx="2094840" cy="116244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Before/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During/Af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Kristen ITC"/>
                </a:rPr>
                <a:t>Practic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1038"/>
            <p:cNvSpPr/>
            <p:nvPr/>
          </p:nvSpPr>
          <p:spPr>
            <a:xfrm flipV="1">
              <a:off x="4571640" y="2849040"/>
              <a:ext cx="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1039"/>
            <p:cNvSpPr/>
            <p:nvPr/>
          </p:nvSpPr>
          <p:spPr>
            <a:xfrm>
              <a:off x="3523680" y="1686240"/>
              <a:ext cx="2095560" cy="1162800"/>
            </a:xfrm>
            <a:prstGeom prst="ellipse">
              <a:avLst/>
            </a:prstGeom>
            <a:solidFill>
              <a:srgbClr val="9614c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risten ITC"/>
                </a:rPr>
                <a:t>Modeling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Kristen ITC"/>
                </a:rPr>
                <a:t>Strateg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1040"/>
            <p:cNvSpPr/>
            <p:nvPr/>
          </p:nvSpPr>
          <p:spPr>
            <a:xfrm>
              <a:off x="3523680" y="3432600"/>
              <a:ext cx="2095560" cy="1162440"/>
            </a:xfrm>
            <a:prstGeom prst="ellipse">
              <a:avLst/>
            </a:prstGeom>
            <a:solidFill>
              <a:srgbClr val="49d7f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9880" rIns="119880" tIns="59760" bIns="59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84d3"/>
                  </a:solidFill>
                  <a:latin typeface="Kristen ITC"/>
                </a:rPr>
                <a:t>Conten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84d3"/>
                  </a:solidFill>
                  <a:latin typeface="Kristen ITC"/>
                </a:rPr>
                <a:t>Are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84d3"/>
                  </a:solidFill>
                  <a:latin typeface="Kristen ITC"/>
                </a:rPr>
                <a:t>Teac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Rectangle 3" descr=""/>
          <p:cNvPicPr/>
          <p:nvPr/>
        </p:nvPicPr>
        <p:blipFill>
          <a:blip r:embed="rId1"/>
          <a:stretch/>
        </p:blipFill>
        <p:spPr>
          <a:xfrm>
            <a:off x="231840" y="1523880"/>
            <a:ext cx="8680320" cy="48769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4d3"/>
                </a:solidFill>
                <a:latin typeface="Kristen ITC"/>
              </a:rPr>
              <a:t>Twenty</a:t>
            </a:r>
            <a:r>
              <a:rPr b="1" lang="en-US" sz="2800" spc="-1" strike="noStrike">
                <a:solidFill>
                  <a:srgbClr val="ffffff"/>
                </a:solidFill>
                <a:latin typeface="Kristen ITC"/>
              </a:rPr>
              <a:t> Thinking Strategies Readers Use to </a:t>
            </a:r>
            <a:r>
              <a:rPr b="1" lang="en-US" sz="2800" spc="-1" strike="noStrike">
                <a:solidFill>
                  <a:srgbClr val="0033cc"/>
                </a:solidFill>
                <a:latin typeface="Kristen ITC"/>
              </a:rPr>
              <a:t>Comprehend</a:t>
            </a:r>
            <a:r>
              <a:rPr b="1" lang="en-US" sz="2800" spc="-1" strike="noStrike">
                <a:solidFill>
                  <a:srgbClr val="ffffff"/>
                </a:solidFill>
                <a:latin typeface="Kristen ITC"/>
              </a:rPr>
              <a:t> </a:t>
            </a:r>
            <a:r>
              <a:rPr b="1" lang="en-US" sz="2800" spc="-1" strike="noStrike">
                <a:solidFill>
                  <a:srgbClr val="4584d3"/>
                </a:solidFill>
                <a:latin typeface="Kristen ITC"/>
              </a:rPr>
              <a:t>Nonfiction</a:t>
            </a:r>
            <a:r>
              <a:rPr b="1" lang="en-US" sz="2800" spc="-1" strike="noStrike">
                <a:solidFill>
                  <a:srgbClr val="ffffff"/>
                </a:solidFill>
                <a:latin typeface="Kristen ITC"/>
              </a:rPr>
              <a:t> Texts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651" name="Picture 5" descr="books1"/>
          <p:cNvPicPr/>
          <p:nvPr/>
        </p:nvPicPr>
        <p:blipFill>
          <a:blip r:embed="rId2"/>
          <a:stretch/>
        </p:blipFill>
        <p:spPr>
          <a:xfrm>
            <a:off x="7794720" y="5410080"/>
            <a:ext cx="1349280" cy="134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Windows User</cp:lastModifiedBy>
  <cp:lastPrinted>2008-08-25T19:21:40Z</cp:lastPrinted>
  <dcterms:modified xsi:type="dcterms:W3CDTF">2014-03-31T17:47:17Z</dcterms:modified>
  <cp:revision>121</cp:revision>
  <dc:subject/>
  <dc:title>PowerPoint Template</dc:title>
</cp:coreProperties>
</file>